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25E1-5115-41DC-AE34-7772538150A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6AAF-3D25-4708-AE8E-7CF1ED0E5EA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921D-7996-41BC-8EFF-8A7576D340F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E0D-A62E-414E-B7E5-3E4A4482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E40-A080-474E-AE19-92A20401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A34-8F7D-4FF0-AAB5-5F05666A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6DC-A44C-487D-96E3-88312303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3B10-1978-4E89-BBED-4EFF458F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6441-ABE3-4A2C-81AC-32B7CF44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0D51-D43A-42CA-843D-98DC6418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BAAA-3716-4AEB-B079-1528A26E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D720-8167-4415-9C8B-BF41F129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B3EF-E362-4CEA-91B9-FC25389F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A5E3-DBC7-4D8F-8A58-9D8DF1D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18B-BB6D-4611-90F0-840DD612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B8E-3CAB-445D-9CFE-854BA3CF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7DC6-C103-4422-B2A9-D4B46DB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3909-FFC2-4452-9803-C7D3179E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CEFC-3231-4F46-A898-EC08F7D2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73EE-5673-443B-AAAC-209C10D2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00A3-B6EC-4109-9E98-87F0E210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B443-C5BB-4845-A234-319BA4C6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1412-DF60-4F92-9738-A90D2021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B3A5-3DB9-4BA5-B373-65F5F4AC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F3025-A1B0-4C7D-B5BB-64CA1FDA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E22-1320-448D-B248-2D8115E1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F3D4-48D6-4B96-ABFB-1C10685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85D0-4418-4F06-AFC4-1EACFF5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2CF1-467D-47F6-8A8F-C758D10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4508-746E-47FA-B31B-5E7311D0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B05A-402D-49A9-AC31-CDFAB31D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65E9-0D9F-4BBF-AE80-42DBF5DB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8036-48A7-4CF1-A9EC-AF52D6DB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9322-BB1A-4E0A-8129-6DC9843E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A3D3-C734-4BEC-BB22-9B3352A9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6D65-C185-471A-BCDB-11CEB450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D9C-20A3-42EA-89CC-E29DBD7D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84689-3CB2-49CD-B483-DF8853BA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BBC0-76D4-470F-8BAB-F168699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9FF9-714C-4F1A-A0CD-F5AC81FB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6B91-89B9-477E-9994-E58A1F8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E606-DA65-48F6-A1FA-CEEEABEA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0E0A-EF01-4EC1-A06A-89C2CE66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A3FF-6527-43CD-A1E2-34D5FC8A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70EB-BBAE-426C-9520-2D85A69F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0D956-3BBE-4836-A821-CFFE8B3E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0CD-D077-49E1-9261-CCC088D8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8BE-6211-4147-A69E-32AF9CBB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7A5-BCBB-4886-974C-96A2795A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2D0-8685-4591-B426-E3A66D2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785-BAD3-4E86-8317-8A42B738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B8C4-DC83-4E00-97B5-1BAAF1FCA6B8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0B62-9EF7-4EA7-BB0C-E7102B8E95C8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58CA-DB10-418A-8BD6-CA1ACC9C15B9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4596-1A34-41CE-8D9D-F41A788EDACC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/>
          <a:srcRect l="0" t="13380" r="0" b="0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2060280"/>
            <a:ext cx="47512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ur students do not have a lot of time off school, since many of them attend lessons for 32 - 34 hours a week, and yet several choose to attend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extra lessons and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prepare for international English language exams (PET, FCE, TOEIC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take ECDL exam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train for sporting event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prepare theatre show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2879640" cy="2087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5292720" y="436572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1989000"/>
            <a:ext cx="43308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ur students participate in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international projec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exchanges, sponsored by the EU or by other agencies (e.g. the British Council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ny participate in local, national or even international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contes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relating to the fields of textile design, textile technology and chemistry, often with excellent results and extensive recogni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292720" y="4292640"/>
            <a:ext cx="2879640" cy="2166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28796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1989000"/>
            <a:ext cx="43308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ny of our students actively participate in events to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promote the school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its servic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yearly “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open day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”, when the school opens to prospective students and their famili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annual “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creativity da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”, where schools present their field of study through creative product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shows and exhibiti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students’ product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local ev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2880000" cy="2379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8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879640" cy="2166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2879640" cy="2166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2879640" cy="2167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4"/>
          <a:stretch/>
        </p:blipFill>
        <p:spPr>
          <a:xfrm>
            <a:off x="1403280" y="436572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4920" y="1989000"/>
            <a:ext cx="41022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8000"/>
          </a:bodyPr>
          <a:p>
            <a:pPr marL="281520" indent="-2671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stituto di Setifici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born in 1869 as a school for workers of the silk industr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became a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State Schoo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1903 thanks to senator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Paolo Carcan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whom it was later named af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963 it was transformed into  a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Technical High School (Istituto Tecnico Industriale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ering three specializations: Chemistry, Design and Textile Technolog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975 it moved to its current premi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Segnaposto contenuto 6" descr="a_67.preview.jpg"/>
          <p:cNvPicPr/>
          <p:nvPr/>
        </p:nvPicPr>
        <p:blipFill>
          <a:blip r:embed="rId1"/>
          <a:stretch/>
        </p:blipFill>
        <p:spPr>
          <a:xfrm>
            <a:off x="5124600" y="1844640"/>
            <a:ext cx="2976480" cy="2225880"/>
          </a:xfrm>
          <a:prstGeom prst="rect">
            <a:avLst/>
          </a:prstGeom>
          <a:ln w="0">
            <a:noFill/>
          </a:ln>
        </p:spPr>
      </p:pic>
      <p:pic>
        <p:nvPicPr>
          <p:cNvPr id="206" name="Immagine 7" descr="facciata_0.jpg"/>
          <p:cNvPicPr/>
          <p:nvPr/>
        </p:nvPicPr>
        <p:blipFill>
          <a:blip r:embed="rId2"/>
          <a:stretch/>
        </p:blipFill>
        <p:spPr>
          <a:xfrm>
            <a:off x="5219640" y="422100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What we off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4920" y="1989000"/>
            <a:ext cx="41022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87280" indent="-27288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tudents who enrolled before 2010 could choose between the three traditional courses  with further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pecializati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52320" indent="-24588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Chemistry: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cloth dyeing, environmental chemistry and food chemistr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52320" indent="-24588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Desig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: art design, textile design and graphic desig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52320" indent="-24588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Textile Technolog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87280" indent="-27288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courses of a new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Senior High School for Science Educ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Liceo Scientifico) were added in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200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Segnaposto contenuto 12" descr="a_27.preview.jpg"/>
          <p:cNvPicPr/>
          <p:nvPr/>
        </p:nvPicPr>
        <p:blipFill>
          <a:blip r:embed="rId1"/>
          <a:stretch/>
        </p:blipFill>
        <p:spPr>
          <a:xfrm>
            <a:off x="5364000" y="414972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210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itolo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364000" y="189864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What we off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4920" y="1989000"/>
            <a:ext cx="41022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7000"/>
          </a:bodyPr>
          <a:p>
            <a:pPr marL="278640" indent="-26460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ew options after the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reform of the school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r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echnical course in </a:t>
            </a: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Chemistry of Materials and Biotechnologies</a:t>
            </a:r>
            <a:r>
              <a:rPr b="0" lang="en-US" sz="19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echnical course for </a:t>
            </a: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Fashio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 specializing in textile design and textile technolog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echnical course for </a:t>
            </a: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Graphic Design and Communicatio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Senior High School course for </a:t>
            </a: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Science Educatio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 with the possibility of choosing between Latin or IC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8640" indent="-264600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8640" indent="-264600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8640" indent="-264600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itolo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2879640" cy="2165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28796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What we off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also offer 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evening class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 older students who want to obtain a High School diploma by taking the official State Exams at the end of three year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urse in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Chemistry of Cloth Dye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urse in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extile Techn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Segnaposto contenuto 13" descr="serale10.jpg"/>
          <p:cNvPicPr/>
          <p:nvPr/>
        </p:nvPicPr>
        <p:blipFill>
          <a:blip r:embed="rId1"/>
          <a:stretch/>
        </p:blipFill>
        <p:spPr>
          <a:xfrm>
            <a:off x="5114880" y="192096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chool and its terri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4920" y="1988640"/>
            <a:ext cx="7921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0000"/>
          </a:bodyPr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ur school has always had very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strong ti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ith our city’s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industrial b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the final three years, either in summer or during the year, 85% of our students have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working experienc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local compan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fter the end of school, the students who do not go to university usually find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work in local compani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relating to the field they specialized i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itolo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2921040" cy="2032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94920" y="4292280"/>
            <a:ext cx="4753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87280" indent="-272880" algn="just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large percentage of our students continue their studies at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universit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higher educ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urses, either in Como itselfor in Milan, and then go on to find work in local compan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7280" indent="-272880" algn="just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87280" indent="-272880" algn="just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chool and its terri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4920" y="1915920"/>
            <a:ext cx="82090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75760" indent="-2617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Setificio Founda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was established in 1994 by silk industry entrepreneurs of the Como area  to support the activities of the school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ince then the Foundation has provided the school with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state of the art tool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laboratori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s well as promoted projects to improve teaching and train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Foundation directly finances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Higher Education cours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in Textile Technology, Textile Design, Textile CAD and Chemistry, with working experience at local compan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jects with local Vocational Schools and Universities are also promoted, such as the one which is currently taking place in collaboration with the Milan University Institute of Engineering concerning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digital printing techniqu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040" indent="-235800">
              <a:lnSpc>
                <a:spcPct val="9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040" indent="-235800">
              <a:lnSpc>
                <a:spcPct val="9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040" indent="-235800">
              <a:lnSpc>
                <a:spcPct val="9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040" indent="-235800">
              <a:lnSpc>
                <a:spcPct val="9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Titolo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Segnaposto contenuto 5"/>
          <p:cNvSpPr/>
          <p:nvPr/>
        </p:nvSpPr>
        <p:spPr>
          <a:xfrm>
            <a:off x="5003640" y="4221000"/>
            <a:ext cx="3529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915920"/>
            <a:ext cx="433080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school currently has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830 studen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661 of whom are enrolled in the Technical Courses, 111 have chosen the Senior High School and 58 attend the evening class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udents live in the area of Como and its province, including villages on the Lake. Many have relatives who studied at our school to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st students come from middle-class or working-class backgroun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2879640" cy="2166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28796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915920"/>
            <a:ext cx="433080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5000"/>
          </a:bodyPr>
          <a:p>
            <a:pPr marL="259200" indent="-2592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umber of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students of foreign orig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been increasing over the last few yea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come from China, Turkey, Ukraine, Romania, Ghana, Sri Lanka, Peru…. A few were born here, some have been living here for a few years but several have only just arrived and have little or no Itali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issues of language teaching for the newly arrived and of integration for the others are tackled through specific ac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28796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6:07:55Z</dcterms:created>
  <dc:creator> </dc:creator>
  <dc:description/>
  <dc:language>en-US</dc:language>
  <cp:lastModifiedBy> </cp:lastModifiedBy>
  <dcterms:modified xsi:type="dcterms:W3CDTF">2010-11-05T21:57:54Z</dcterms:modified>
  <cp:revision>57</cp:revision>
  <dc:subject/>
  <dc:title>Diapositiva 1</dc:title>
</cp:coreProperties>
</file>